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77A5-C238-454C-9673-D1D19672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C92-D7F5-47FD-809B-6775B8E0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AE3A-1A39-46D4-87AD-C3F5BCB4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3FE-57DB-42F5-A6E4-560F01DC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113-F2AA-4DCB-B399-38CE7AFF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B9A-F372-4C54-9424-05AD15E1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DFB-1B2C-4F72-BB21-8FEF1FB3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5EB-A6D2-46DB-BF88-E8F11E18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7EC-8918-4DEF-9FDF-4D9FEE0D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896-386B-41A8-B059-3B43E357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6708-3ACA-4CF3-9295-661F0CEF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C7E-251D-4B1C-AC17-5EB48250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81A0-D9A3-4BBA-B723-B8A3670730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нятие 3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ЯТОЙ – ЗНАЧИТ ОСВЯЩЁННЫ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F:\00. УРОКИ 2013-2914\01. ДНК\2-год обучения от 14.03. 2012 год\1-10 уроки. Святая Русь от 12.03.2012\2 урок\02. Святой.jpg"/>
          <p:cNvPicPr/>
          <p:nvPr/>
        </p:nvPicPr>
        <p:blipFill>
          <a:blip r:embed="rId1"/>
          <a:stretch/>
        </p:blipFill>
        <p:spPr>
          <a:xfrm>
            <a:off x="762120" y="1295280"/>
            <a:ext cx="754380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4114800" cy="20574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ая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Мария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Египет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:\00. УРОКИ 2013-2914\01. ДНК\2-год обучения от 14.03. 2012 год\1-10 уроки. Святая Русь от 12.03.2012\2 урок\12. Преп Мария Египетская.jpg"/>
          <p:cNvPicPr/>
          <p:nvPr/>
        </p:nvPicPr>
        <p:blipFill>
          <a:blip r:embed="rId1"/>
          <a:srcRect l="0" t="0" r="0" b="1937"/>
          <a:stretch/>
        </p:blipFill>
        <p:spPr>
          <a:xfrm>
            <a:off x="4789440" y="0"/>
            <a:ext cx="435456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00. УРОКИ 2013-2914\01. ДНК\2-год обучения от 14.03. 2012 год\1-10 уроки. Святая Русь от 12.03.2012\2 урок\17. Дела и житие Сергия Радонежского.jpg"/>
          <p:cNvPicPr/>
          <p:nvPr/>
        </p:nvPicPr>
        <p:blipFill>
          <a:blip r:embed="rId1"/>
          <a:stretch/>
        </p:blipFill>
        <p:spPr>
          <a:xfrm>
            <a:off x="1143000" y="0"/>
            <a:ext cx="734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66294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мб изображает сияние света и славы Божией, которая преображает человека, соединившегося с Бог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F:\00. УРОКИ 2013-2914\01. ДНК\2-год обучения от 14.03. 2012 год\1-10 уроки. Святая Русь от 12.03.2012\2 урок\18. Stjazhanie-Svjatogo-Duha.jpg"/>
          <p:cNvPicPr/>
          <p:nvPr/>
        </p:nvPicPr>
        <p:blipFill>
          <a:blip r:embed="rId1"/>
          <a:stretch/>
        </p:blipFill>
        <p:spPr>
          <a:xfrm>
            <a:off x="4724280" y="304920"/>
            <a:ext cx="441972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:\00. УРОКИ 2013-2914\01. ДНК\2-год обучения от 14.03. 2012 год\1-10 уроки. Святая Русь от 12.03.2012\2 урок\19. Нимб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6094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Нимб – символ свят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0" t="0" r="156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4700520" y="6072120"/>
            <a:ext cx="42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УТИ  К  СВЯТ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Таблица 2" descr=""/>
          <p:cNvPicPr/>
          <p:nvPr/>
        </p:nvPicPr>
        <p:blipFill>
          <a:blip r:embed="rId1"/>
          <a:stretch/>
        </p:blipFill>
        <p:spPr>
          <a:xfrm>
            <a:off x="1603440" y="884160"/>
            <a:ext cx="6242040" cy="4876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0" y="4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Н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99ff"/>
                </a:solidFill>
                <a:latin typeface="Arial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Р    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ff9999"/>
                </a:solidFill>
                <a:latin typeface="Arial"/>
                <a:ea typeface="Times New Roman"/>
              </a:rPr>
              <a:t>Х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Ч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  <a:ea typeface="Times New Roman"/>
              </a:rPr>
              <a:t>У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С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  <a:ea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3657240"/>
            <a:ext cx="4343400" cy="2971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ый Сергий Радонеж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F:\00. УРОКИ 2013-2914\01. ДНК\2-год обучения от 14.03. 2012 год\1-10 уроки. Святая Русь от 12.03.2012\2 урок\04. Сергий Радонежский.jpg"/>
          <p:cNvPicPr/>
          <p:nvPr/>
        </p:nvPicPr>
        <p:blipFill>
          <a:blip r:embed="rId1"/>
          <a:srcRect l="3224" t="3345" r="3224" b="2220"/>
          <a:stretch/>
        </p:blipFill>
        <p:spPr>
          <a:xfrm>
            <a:off x="4464000" y="0"/>
            <a:ext cx="468000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ео 2. Сергий Радонеж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D:\02. ДНК\2-год обучения от 05. 08. 2011\ДНК\1-10 уроки. Святая Русь от 30.10.2011\2 урок\06. Видение отрока Варфоломе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Видение отрока Варфолом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24280"/>
            <a:ext cx="4191120" cy="19051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ый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Серафим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Саров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F:\00. УРОКИ 2013-2914\01. ДНК\2-год обучения от 14.03. 2012 год\1-10 уроки. Святая Русь от 12.03.2012\2 урок\07. Серафим Саровский.jpg"/>
          <p:cNvPicPr/>
          <p:nvPr/>
        </p:nvPicPr>
        <p:blipFill>
          <a:blip r:embed="rId1"/>
          <a:srcRect l="2925" t="2219" r="2859" b="2219"/>
          <a:stretch/>
        </p:blipFill>
        <p:spPr>
          <a:xfrm>
            <a:off x="4038480" y="0"/>
            <a:ext cx="5105520" cy="690408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2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рафим Саровски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647960"/>
            <a:ext cx="4343400" cy="19047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Блаженная Ксения Петербург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:\00. УРОКИ 2013-2914\01. ДНК\2-год обучения от 14.03. 2012 год\1-10 уроки. Святая Русь от 12.03.2012\2 урок\09. Бл. Ксения.jp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3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сения Петербургская – молитвенница за на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4. Ксения Блаже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6:21:09Z</dcterms:created>
  <dc:creator>Ольга</dc:creator>
  <dc:description/>
  <dc:language>en-US</dc:language>
  <cp:lastModifiedBy>Olga</cp:lastModifiedBy>
  <dcterms:modified xsi:type="dcterms:W3CDTF">2015-12-01T17:21:0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